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AB6D-ECB8-4EA8-8CF6-A1545915ED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06AA-2198-443D-9AA5-38072BD029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2A4-6B8B-4DEE-8E6F-4A65314F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493-A323-46AC-885D-E82E584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D1B-6ABF-446C-8BB8-8281A14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D1B-6BD8-4791-9294-7A9F04EE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8AF-4E90-4972-8C7B-49F5F7A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038-48F9-489F-B934-1959DCF2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D1E-1736-489C-9A99-FF2F16FE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D30-D5ED-4BC6-8CDA-DAE994A9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C76-2005-4696-9AF8-0C5D13A7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515-F56F-4AAB-B6AC-0C6BAC7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F52-E2F7-467C-9B96-95C850C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9B9-1804-4468-A557-45E85974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A898-6196-48A9-92B6-6BA2CD1D71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系列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IP trace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抓包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  <a:ea typeface="宋体"/>
              </a:rPr>
              <a:t>领域集团渠道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宋体"/>
              </a:rPr>
              <a:t>2018.11.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テキスト ボックス 4"/>
          <p:cNvSpPr/>
          <p:nvPr/>
        </p:nvSpPr>
        <p:spPr>
          <a:xfrm>
            <a:off x="1325880" y="3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连接终端仿真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74"/>
          <p:cNvSpPr/>
          <p:nvPr/>
        </p:nvSpPr>
        <p:spPr>
          <a:xfrm>
            <a:off x="2369520" y="692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需要使用终端仿真软件登陆命令行界面 开启相关功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52520" y="1628640"/>
            <a:ext cx="3657600" cy="1928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4235400" y="1363680"/>
            <a:ext cx="4591080" cy="332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4997520" y="3801960"/>
            <a:ext cx="373356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452520" y="3686040"/>
            <a:ext cx="4190760" cy="3008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585880" y="2238480"/>
            <a:ext cx="1371600" cy="3808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205000" y="3990960"/>
            <a:ext cx="1523880" cy="990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997520" y="4106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”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后输入‘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in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997520" y="38019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键入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回车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989600" y="4400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输入密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34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默认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74"/>
          <p:cNvSpPr/>
          <p:nvPr/>
        </p:nvSpPr>
        <p:spPr>
          <a:xfrm>
            <a:off x="5486040" y="52531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a Term P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9"/>
          <p:cNvSpPr/>
          <p:nvPr/>
        </p:nvSpPr>
        <p:spPr>
          <a:xfrm flipV="1">
            <a:off x="608040" y="1960200"/>
            <a:ext cx="3349440" cy="262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テキスト ボックス 74"/>
          <p:cNvSpPr/>
          <p:nvPr/>
        </p:nvSpPr>
        <p:spPr>
          <a:xfrm>
            <a:off x="1913400" y="692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注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默认密码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如果修改，请输入修改后的密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角丸四角形 2"/>
          <p:cNvSpPr/>
          <p:nvPr/>
        </p:nvSpPr>
        <p:spPr>
          <a:xfrm>
            <a:off x="1293840" y="3213000"/>
            <a:ext cx="60148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Password : *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角丸四角形吹き出し 3"/>
          <p:cNvSpPr/>
          <p:nvPr/>
        </p:nvSpPr>
        <p:spPr>
          <a:xfrm>
            <a:off x="2843280" y="2674800"/>
            <a:ext cx="3035160" cy="657360"/>
          </a:xfrm>
          <a:prstGeom prst="wedgeRoundRectCallout">
            <a:avLst>
              <a:gd name="adj1" fmla="val -31259"/>
              <a:gd name="adj2" fmla="val 94421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初始密码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角丸四角形吹き出し 4"/>
          <p:cNvSpPr/>
          <p:nvPr/>
        </p:nvSpPr>
        <p:spPr>
          <a:xfrm>
            <a:off x="1427040" y="4653000"/>
            <a:ext cx="3035520" cy="779400"/>
          </a:xfrm>
          <a:prstGeom prst="wedgeRoundRectCallout">
            <a:avLst>
              <a:gd name="adj1" fmla="val -32717"/>
              <a:gd name="adj2" fmla="val -9832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输入正确，将会看到以上界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テキスト ボックス 4"/>
          <p:cNvSpPr/>
          <p:nvPr/>
        </p:nvSpPr>
        <p:spPr>
          <a:xfrm>
            <a:off x="1175760" y="333360"/>
            <a:ext cx="16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开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关闭 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74"/>
          <p:cNvSpPr/>
          <p:nvPr/>
        </p:nvSpPr>
        <p:spPr>
          <a:xfrm>
            <a:off x="1807560" y="69228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TTRC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命令来开启和关闭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角丸四角形 14"/>
          <p:cNvSpPr/>
          <p:nvPr/>
        </p:nvSpPr>
        <p:spPr>
          <a:xfrm>
            <a:off x="1293840" y="1596960"/>
            <a:ext cx="6014880" cy="176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Password : *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PKTTRC ON 2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PKTTRC O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4"/>
          <p:cNvSpPr/>
          <p:nvPr/>
        </p:nvSpPr>
        <p:spPr>
          <a:xfrm>
            <a:off x="1363320" y="1096920"/>
            <a:ext cx="5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角丸四角形吹き出し 16"/>
          <p:cNvSpPr/>
          <p:nvPr/>
        </p:nvSpPr>
        <p:spPr>
          <a:xfrm>
            <a:off x="4114800" y="1989000"/>
            <a:ext cx="3816360" cy="657360"/>
          </a:xfrm>
          <a:prstGeom prst="wedgeRoundRectCallout">
            <a:avLst>
              <a:gd name="adj1" fmla="val -65273"/>
              <a:gd name="adj2" fmla="val 2709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AN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抓包，并在重启后自动关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角丸四角形吹き出し 17"/>
          <p:cNvSpPr/>
          <p:nvPr/>
        </p:nvSpPr>
        <p:spPr>
          <a:xfrm>
            <a:off x="4091040" y="2852640"/>
            <a:ext cx="1704960" cy="657360"/>
          </a:xfrm>
          <a:prstGeom prst="wedgeRoundRectCallout">
            <a:avLst>
              <a:gd name="adj1" fmla="val -69819"/>
              <a:gd name="adj2" fmla="val -2900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停止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テキスト ボックス 74" descr=""/>
          <p:cNvPicPr/>
          <p:nvPr/>
        </p:nvPicPr>
        <p:blipFill>
          <a:blip r:embed="rId1"/>
          <a:stretch/>
        </p:blipFill>
        <p:spPr>
          <a:xfrm>
            <a:off x="1243080" y="3524400"/>
            <a:ext cx="6280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テキスト ボックス 4"/>
          <p:cNvSpPr/>
          <p:nvPr/>
        </p:nvSpPr>
        <p:spPr>
          <a:xfrm>
            <a:off x="1186560" y="33336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卸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，并拔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74"/>
          <p:cNvSpPr/>
          <p:nvPr/>
        </p:nvSpPr>
        <p:spPr>
          <a:xfrm>
            <a:off x="1663200" y="692280"/>
            <a:ext cx="16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勿直接拔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在软件中先卸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然后在拔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19200" y="1916280"/>
            <a:ext cx="7905600" cy="1647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 flipV="1">
            <a:off x="6588000" y="3224160"/>
            <a:ext cx="863640" cy="2635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テキスト ボックス 4"/>
          <p:cNvSpPr/>
          <p:nvPr/>
        </p:nvSpPr>
        <p:spPr>
          <a:xfrm>
            <a:off x="1322640" y="333360"/>
            <a:ext cx="23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5)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连接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并分析数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74"/>
          <p:cNvSpPr/>
          <p:nvPr/>
        </p:nvSpPr>
        <p:spPr>
          <a:xfrm>
            <a:off x="1235160" y="1268280"/>
            <a:ext cx="70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抓包的文件将保存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根目录，文件命名规则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74"/>
          <p:cNvSpPr/>
          <p:nvPr/>
        </p:nvSpPr>
        <p:spPr>
          <a:xfrm>
            <a:off x="1281960" y="1844640"/>
            <a:ext cx="4341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dump_HHMMSS.p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HMMSS 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起始抓包时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テキスト ボックス 3"/>
          <p:cNvSpPr/>
          <p:nvPr/>
        </p:nvSpPr>
        <p:spPr>
          <a:xfrm>
            <a:off x="728280" y="40464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4.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注意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74"/>
          <p:cNvSpPr/>
          <p:nvPr/>
        </p:nvSpPr>
        <p:spPr>
          <a:xfrm>
            <a:off x="755640" y="1916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抓包的数据不包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TP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数据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テキスト ボックス 2"/>
          <p:cNvSpPr/>
          <p:nvPr/>
        </p:nvSpPr>
        <p:spPr>
          <a:xfrm>
            <a:off x="395280" y="1773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在使用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设备的情况下，为了更好的分析问题，都需要提供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Wireshark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抓取的数据包，以下说明描述了如何对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NS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系列主机进行抓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テキスト ボックス 2"/>
          <p:cNvSpPr/>
          <p:nvPr/>
        </p:nvSpPr>
        <p:spPr>
          <a:xfrm>
            <a:off x="2136600" y="292428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X-NS1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10960" y="135000"/>
            <a:ext cx="8533080" cy="441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X-NS1000 Web Maintenance Console for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6639120" cy="53020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28600" y="762120"/>
            <a:ext cx="3492360" cy="37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打开端口镜像功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28600" y="4267080"/>
            <a:ext cx="266688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8600" y="4267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点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up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按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86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Network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28600" y="5257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Advanced Set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286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Port Mirr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762120" y="4876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IP address 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33520" y="50292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286000" y="3352680"/>
            <a:ext cx="11430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8305920" y="1905120"/>
            <a:ext cx="3808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4038480" y="2971800"/>
            <a:ext cx="9144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657600" y="4800600"/>
            <a:ext cx="35053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8305920" y="182880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048120" y="327672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4648320" y="289548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5105520" y="487692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9" descr="ut136_c"/>
          <p:cNvPicPr/>
          <p:nvPr/>
        </p:nvPicPr>
        <p:blipFill>
          <a:blip r:embed="rId1"/>
          <a:stretch/>
        </p:blipFill>
        <p:spPr>
          <a:xfrm>
            <a:off x="6773760" y="3200400"/>
            <a:ext cx="2370240" cy="157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NS1000-c"/>
          <p:cNvPicPr/>
          <p:nvPr/>
        </p:nvPicPr>
        <p:blipFill>
          <a:blip r:embed="rId2"/>
          <a:stretch/>
        </p:blipFill>
        <p:spPr>
          <a:xfrm>
            <a:off x="2743200" y="99072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210960" y="135000"/>
            <a:ext cx="8533080" cy="441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X-NS1000 Web Maintenance Console for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278240" y="2463840"/>
            <a:ext cx="4464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按照前页说明打开镜像后，通过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BX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的数据会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NT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口镜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398600" y="1239840"/>
            <a:ext cx="29527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直接连接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NT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046240" y="3255840"/>
            <a:ext cx="259236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630600" y="4911840"/>
            <a:ext cx="2592360" cy="1439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2" descr="PC"/>
          <p:cNvPicPr/>
          <p:nvPr/>
        </p:nvPicPr>
        <p:blipFill>
          <a:blip r:embed="rId3"/>
          <a:stretch/>
        </p:blipFill>
        <p:spPr>
          <a:xfrm>
            <a:off x="7015320" y="5559480"/>
            <a:ext cx="1190520" cy="121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4"/>
          <a:stretch/>
        </p:blipFill>
        <p:spPr>
          <a:xfrm>
            <a:off x="4710240" y="5343480"/>
            <a:ext cx="838080" cy="31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PC"/>
          <p:cNvPicPr/>
          <p:nvPr/>
        </p:nvPicPr>
        <p:blipFill>
          <a:blip r:embed="rId5"/>
          <a:stretch/>
        </p:blipFill>
        <p:spPr>
          <a:xfrm>
            <a:off x="317520" y="1671480"/>
            <a:ext cx="1190520" cy="121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6"/>
          <a:stretch/>
        </p:blipFill>
        <p:spPr>
          <a:xfrm>
            <a:off x="3630600" y="3471840"/>
            <a:ext cx="838080" cy="317520"/>
          </a:xfrm>
          <a:prstGeom prst="rect">
            <a:avLst/>
          </a:prstGeom>
          <a:ln w="0">
            <a:noFill/>
          </a:ln>
        </p:spPr>
      </p:pic>
      <p:sp>
        <p:nvSpPr>
          <p:cNvPr id="81" name="Line 16"/>
          <p:cNvSpPr/>
          <p:nvPr/>
        </p:nvSpPr>
        <p:spPr>
          <a:xfrm>
            <a:off x="3989520" y="224784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398600" y="253512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18"/>
          <p:cNvSpPr/>
          <p:nvPr/>
        </p:nvSpPr>
        <p:spPr>
          <a:xfrm flipV="1">
            <a:off x="3846600" y="2319120"/>
            <a:ext cx="0" cy="21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4133880" y="3759120"/>
            <a:ext cx="936720" cy="1584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5502240" y="4335480"/>
            <a:ext cx="1800360" cy="1008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5430960" y="5632560"/>
            <a:ext cx="1655640" cy="79200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3701880" y="2751120"/>
            <a:ext cx="505080" cy="431640"/>
          </a:xfrm>
          <a:prstGeom prst="ellipse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6222960" y="4551480"/>
            <a:ext cx="504720" cy="431640"/>
          </a:xfrm>
          <a:prstGeom prst="ellipse">
            <a:avLst/>
          </a:prstGeom>
          <a:solidFill>
            <a:srgbClr val="ff99cc">
              <a:alpha val="50000"/>
            </a:srgbClr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2262240" y="39038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网络交换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773520" y="5703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或者带镜像功能的交换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1685880" y="25351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C-A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抓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S1000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日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6799320" y="4695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C-B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抓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T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话机日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533520" y="2895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8077320" y="6095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-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3773520" y="2174760"/>
            <a:ext cx="288720" cy="2160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34"/>
          <p:cNvSpPr/>
          <p:nvPr/>
        </p:nvSpPr>
        <p:spPr>
          <a:xfrm>
            <a:off x="4349880" y="3759120"/>
            <a:ext cx="2881080" cy="36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495680" y="342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正常连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7" descr=""/>
          <p:cNvPicPr/>
          <p:nvPr/>
        </p:nvPicPr>
        <p:blipFill>
          <a:blip r:embed="rId7"/>
          <a:stretch/>
        </p:blipFill>
        <p:spPr>
          <a:xfrm>
            <a:off x="6172200" y="1295280"/>
            <a:ext cx="2136600" cy="9716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9" name="AutoShape 38"/>
          <p:cNvSpPr/>
          <p:nvPr/>
        </p:nvSpPr>
        <p:spPr>
          <a:xfrm>
            <a:off x="6172200" y="1295280"/>
            <a:ext cx="2133720" cy="990720"/>
          </a:xfrm>
          <a:prstGeom prst="wedgeRectCallout">
            <a:avLst>
              <a:gd name="adj1" fmla="val -149254"/>
              <a:gd name="adj2" fmla="val 397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40"/>
          <p:cNvSpPr/>
          <p:nvPr/>
        </p:nvSpPr>
        <p:spPr>
          <a:xfrm>
            <a:off x="436680" y="5257800"/>
            <a:ext cx="2255760" cy="37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安装使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ireshark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抓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テキスト ボックス 2"/>
          <p:cNvSpPr/>
          <p:nvPr/>
        </p:nvSpPr>
        <p:spPr>
          <a:xfrm>
            <a:off x="2135520" y="292428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X-NS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テキスト ボックス 2"/>
          <p:cNvSpPr/>
          <p:nvPr/>
        </p:nvSpPr>
        <p:spPr>
          <a:xfrm>
            <a:off x="1787400" y="1325520"/>
            <a:ext cx="28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X-NS30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不支持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S1000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一样的镜像功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因此需要特殊的操作，进行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グループ化 36"/>
          <p:cNvGrpSpPr/>
          <p:nvPr/>
        </p:nvGrpSpPr>
        <p:grpSpPr>
          <a:xfrm>
            <a:off x="1455840" y="1685880"/>
            <a:ext cx="6908760" cy="1662120"/>
            <a:chOff x="1455840" y="1685880"/>
            <a:chExt cx="6908760" cy="1662120"/>
          </a:xfrm>
        </p:grpSpPr>
        <p:pic>
          <p:nvPicPr>
            <p:cNvPr id="104" name="Picture 6" descr=""/>
            <p:cNvPicPr/>
            <p:nvPr/>
          </p:nvPicPr>
          <p:blipFill>
            <a:blip r:embed="rId1"/>
            <a:stretch/>
          </p:blipFill>
          <p:spPr>
            <a:xfrm>
              <a:off x="1455840" y="1685880"/>
              <a:ext cx="690876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正方形/長方形 38"/>
            <p:cNvSpPr/>
            <p:nvPr/>
          </p:nvSpPr>
          <p:spPr>
            <a:xfrm>
              <a:off x="1592280" y="2788200"/>
              <a:ext cx="544320" cy="14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6" name="直線矢印コネクタ 13"/>
          <p:cNvCxnSpPr/>
          <p:nvPr/>
        </p:nvCxnSpPr>
        <p:spPr>
          <a:xfrm>
            <a:off x="3276360" y="2982960"/>
            <a:ext cx="1080" cy="1234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07" name="テキスト ボックス 48"/>
          <p:cNvSpPr/>
          <p:nvPr/>
        </p:nvSpPr>
        <p:spPr>
          <a:xfrm>
            <a:off x="7263720" y="18493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lobal IP addres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1" descr="C:\Users\5131526\AppData\Local\Microsoft\Windows\Temporary Internet Files\Content.IE5\08FRVCES\MC900428945[1].wmf"/>
          <p:cNvPicPr/>
          <p:nvPr/>
        </p:nvPicPr>
        <p:blipFill>
          <a:blip r:embed="rId2"/>
          <a:stretch/>
        </p:blipFill>
        <p:spPr>
          <a:xfrm>
            <a:off x="766800" y="3814920"/>
            <a:ext cx="1730160" cy="1238040"/>
          </a:xfrm>
          <a:prstGeom prst="rect">
            <a:avLst/>
          </a:prstGeom>
          <a:ln w="0">
            <a:noFill/>
          </a:ln>
        </p:spPr>
      </p:pic>
      <p:sp>
        <p:nvSpPr>
          <p:cNvPr id="109" name="テキスト ボックス 68"/>
          <p:cNvSpPr/>
          <p:nvPr/>
        </p:nvSpPr>
        <p:spPr>
          <a:xfrm>
            <a:off x="2131920" y="33163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AN</a:t>
            </a: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104"/>
          <p:cNvSpPr/>
          <p:nvPr/>
        </p:nvSpPr>
        <p:spPr>
          <a:xfrm>
            <a:off x="596880" y="381312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105"/>
          <p:cNvSpPr/>
          <p:nvPr/>
        </p:nvSpPr>
        <p:spPr>
          <a:xfrm>
            <a:off x="3905280" y="3316320"/>
            <a:ext cx="5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74"/>
          <p:cNvSpPr/>
          <p:nvPr/>
        </p:nvSpPr>
        <p:spPr>
          <a:xfrm>
            <a:off x="866160" y="581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准备以下环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5131526\AppData\Local\Microsoft\Windows\Temporary Internet Files\Content.IE5\08FRVCES\MC900433879[1].png"/>
          <p:cNvPicPr/>
          <p:nvPr/>
        </p:nvPicPr>
        <p:blipFill>
          <a:blip r:embed="rId3"/>
          <a:stretch/>
        </p:blipFill>
        <p:spPr>
          <a:xfrm>
            <a:off x="3189240" y="3043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テキスト ボックス 105"/>
          <p:cNvSpPr/>
          <p:nvPr/>
        </p:nvSpPr>
        <p:spPr>
          <a:xfrm>
            <a:off x="536400" y="16858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S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:\Users\5131526\AppData\Local\Microsoft\Windows\Temporary Internet Files\Content.IE5\24X2HHK4\MC900223550[1].wmf"/>
          <p:cNvPicPr/>
          <p:nvPr/>
        </p:nvPicPr>
        <p:blipFill>
          <a:blip r:embed="rId4"/>
          <a:stretch/>
        </p:blipFill>
        <p:spPr>
          <a:xfrm>
            <a:off x="2922480" y="4214880"/>
            <a:ext cx="960480" cy="438120"/>
          </a:xfrm>
          <a:prstGeom prst="rect">
            <a:avLst/>
          </a:prstGeom>
          <a:ln w="0">
            <a:noFill/>
          </a:ln>
        </p:spPr>
      </p:pic>
      <p:cxnSp>
        <p:nvCxnSpPr>
          <p:cNvPr id="116" name="直線矢印コネクタ 44"/>
          <p:cNvCxnSpPr/>
          <p:nvPr/>
        </p:nvCxnSpPr>
        <p:spPr>
          <a:xfrm>
            <a:off x="2496960" y="4433400"/>
            <a:ext cx="3945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pic>
        <p:nvPicPr>
          <p:cNvPr id="117" name="Picture 17" descr="nube"/>
          <p:cNvPicPr/>
          <p:nvPr/>
        </p:nvPicPr>
        <p:blipFill>
          <a:blip r:embed="rId5"/>
          <a:stretch/>
        </p:blipFill>
        <p:spPr>
          <a:xfrm>
            <a:off x="4468680" y="3824280"/>
            <a:ext cx="300672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テキスト ボックス 2"/>
          <p:cNvSpPr/>
          <p:nvPr/>
        </p:nvSpPr>
        <p:spPr>
          <a:xfrm>
            <a:off x="5418360" y="4241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直線矢印コネクタ 48"/>
          <p:cNvCxnSpPr/>
          <p:nvPr/>
        </p:nvCxnSpPr>
        <p:spPr>
          <a:xfrm>
            <a:off x="3882600" y="4404960"/>
            <a:ext cx="6152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20" name="テキスト ボックス 104"/>
          <p:cNvSpPr/>
          <p:nvPr/>
        </p:nvSpPr>
        <p:spPr>
          <a:xfrm>
            <a:off x="3784320" y="4562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交换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四角形吹き出し 49"/>
          <p:cNvSpPr/>
          <p:nvPr/>
        </p:nvSpPr>
        <p:spPr>
          <a:xfrm>
            <a:off x="971640" y="5157720"/>
            <a:ext cx="4033800" cy="1047960"/>
          </a:xfrm>
          <a:prstGeom prst="wedgeRectCallout">
            <a:avLst>
              <a:gd name="adj1" fmla="val -24930"/>
              <a:gd name="adj2" fmla="val -8817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浏览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eb-M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终端仿真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a Term Pr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Wireshark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抓包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テキスト ボックス 3"/>
          <p:cNvSpPr/>
          <p:nvPr/>
        </p:nvSpPr>
        <p:spPr>
          <a:xfrm>
            <a:off x="876600" y="40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操作流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テキスト ボックス 4"/>
          <p:cNvSpPr/>
          <p:nvPr/>
        </p:nvSpPr>
        <p:spPr>
          <a:xfrm>
            <a:off x="1226160" y="83664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确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正确安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74"/>
          <p:cNvSpPr/>
          <p:nvPr/>
        </p:nvSpPr>
        <p:spPr>
          <a:xfrm>
            <a:off x="1293840" y="1187280"/>
            <a:ext cx="65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抓取的数据包将会保存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，因此首先要要确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已经正常安装，并识别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271600" y="2502000"/>
            <a:ext cx="2119320" cy="38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22160" y="2658960"/>
            <a:ext cx="571680" cy="514440"/>
          </a:xfrm>
          <a:prstGeom prst="rect">
            <a:avLst/>
          </a:prstGeom>
          <a:ln w="0">
            <a:noFill/>
          </a:ln>
        </p:spPr>
      </p:pic>
      <p:sp>
        <p:nvSpPr>
          <p:cNvPr id="127" name="テキスト ボックス 74"/>
          <p:cNvSpPr/>
          <p:nvPr/>
        </p:nvSpPr>
        <p:spPr>
          <a:xfrm>
            <a:off x="266760" y="34099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右矢印 21503"/>
          <p:cNvSpPr/>
          <p:nvPr/>
        </p:nvSpPr>
        <p:spPr>
          <a:xfrm>
            <a:off x="1579680" y="2730600"/>
            <a:ext cx="441360" cy="371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4649760" y="3451320"/>
            <a:ext cx="424800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672080" y="5121360"/>
            <a:ext cx="4200480" cy="1162080"/>
          </a:xfrm>
          <a:prstGeom prst="rect">
            <a:avLst/>
          </a:prstGeom>
          <a:ln w="0">
            <a:noFill/>
          </a:ln>
        </p:spPr>
      </p:pic>
      <p:sp>
        <p:nvSpPr>
          <p:cNvPr id="131" name="テキスト ボックス 74"/>
          <p:cNvSpPr/>
          <p:nvPr/>
        </p:nvSpPr>
        <p:spPr>
          <a:xfrm>
            <a:off x="4945680" y="29894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未安装正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未识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74"/>
          <p:cNvSpPr/>
          <p:nvPr/>
        </p:nvSpPr>
        <p:spPr>
          <a:xfrm>
            <a:off x="4929480" y="47512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正常情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已识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74"/>
          <p:cNvSpPr/>
          <p:nvPr/>
        </p:nvSpPr>
        <p:spPr>
          <a:xfrm>
            <a:off x="6334920" y="5194440"/>
            <a:ext cx="5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Calibri"/>
              </a:rPr>
              <a:t>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74"/>
          <p:cNvSpPr/>
          <p:nvPr/>
        </p:nvSpPr>
        <p:spPr>
          <a:xfrm>
            <a:off x="6354720" y="345132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8:27:11Z</dcterms:created>
  <dc:creator>林田 智徳&lt;hayashida.tomonori@jp.panasonic.com&gt;</dc:creator>
  <dc:description/>
  <dc:language>en-US</dc:language>
  <cp:lastModifiedBy>Ma Chuck</cp:lastModifiedBy>
  <dcterms:modified xsi:type="dcterms:W3CDTF">2018-11-23T09:04:22Z</dcterms:modified>
  <cp:revision>53</cp:revision>
  <dc:subject/>
  <dc:title>PowerPoint プレゼンテーション</dc:title>
</cp:coreProperties>
</file>